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C87-7C8F-4CDA-B100-0032A055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C25-B388-48A5-971E-704DB97F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1A4-1B4B-41E0-846A-84415F88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3E6-ECD9-4260-A197-69417376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AF3-8FD0-474C-86D5-9B880D45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5AC-3741-4FBC-91CC-63BB6AC2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0AA-2A5A-4247-B4F4-6F8B90FD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5A0-ED53-4D0F-8FD6-8FCC971E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343-5B22-4094-A9D3-ADBD407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1F4-CBD1-4124-A52C-0055AB5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AF1-D748-4F1E-A16C-95631DA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AE7-763B-4E41-B37D-AAC8364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6AF64-445B-4498-B5E2-0995CEC5B3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DD2D4-D9D6-4459-B551-6AFAF533F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ry of The Computer and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essie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icro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408924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d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tair 8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Micro Instrumentation and Telemetry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 old Microsoft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968640" y="1600200"/>
            <a:ext cx="4292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nar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se-2 numbe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ed numeric values using the symbols 0 and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internally by ALL modern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01011101001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705200" y="187308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kipedi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ctually I didn’t realize but almost all of the stuff I got was from wiki :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irst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5733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omputer was made in 1939 by John V. Atanasoff and Clifford B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anasoff-Berry Computer (AB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030560" y="2033640"/>
            <a:ext cx="49482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41911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miral Grace Hop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as working on a Mark II Computer at Harvard University, her associates discovered a moth stuck in a re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moved it and called it “Debugging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648320" y="2038320"/>
            <a:ext cx="40384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351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7 Soviet Union Launched Sputnik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1958 Concerns of the people in the military Created The Defense Advanced Research Projects Agency Net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ARPANE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363920" y="2343240"/>
            <a:ext cx="4322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nalytical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40006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mportant step in the history of compu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by an English Mathematician named Charles Babb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ecause the complexity, lack of project management science, expenses, and difficulty of accessing its value it was never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427640" y="1892160"/>
            <a:ext cx="42591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erman Hollerith’s Tabulating Mach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d to rapidly tabulate statistics from millions of pieces of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08120" y="2927520"/>
            <a:ext cx="4000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363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to calculate artillery firing tables for the United States Army's Ballistic Research Laboratory, but its first use was in the hydrogen bomb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ilt in secret in the University of Pennsylvania’s Moore School of Electrical Engineer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WAS HUG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27720" y="1417680"/>
            <a:ext cx="313668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324320" y="4273560"/>
            <a:ext cx="3340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mputer program is a sequence of instructions written to perform a specified task for a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a Software Program or just a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nsistors &gt; Vacuum T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acuum Tubes were used to amplify music and vo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Long-distance calling practic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power, Created heat and burned out rapid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quired high maint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ransistors did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772240" y="1239840"/>
            <a:ext cx="2044440" cy="24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372280" y="3894120"/>
            <a:ext cx="2444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15:37Z</dcterms:created>
  <dc:creator>HJ</dc:creator>
  <dc:description/>
  <dc:language>en-US</dc:language>
  <cp:lastModifiedBy>HJ</cp:lastModifiedBy>
  <dcterms:modified xsi:type="dcterms:W3CDTF">2010-09-02T17:18:41Z</dcterms:modified>
  <cp:revision>3</cp:revision>
  <dc:subject/>
  <dc:title>History of The Computer and The Internet</dc:title>
</cp:coreProperties>
</file>