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87B-9935-4CBD-88C8-E5012C33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277-2534-4088-96DD-906FF421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053-3841-4E57-9917-FC35852E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AB2-685D-44BC-9CF1-A2D84478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BDE-8B57-4C4D-B7D5-90833E56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E06-90AD-43D4-A048-D10BA8E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739-58CF-44E0-A860-CAE2CD1B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99F-C874-4637-A6F2-39C9B320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C73-2EBA-4B2C-8F6C-E2C2C54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495-8750-4069-8F45-C4878E15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00E-31FA-424F-9A02-48000FF9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D0C-F777-456E-A244-9CDB63B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CE000-00B7-49AD-B688-B08237E7D6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CAA1B-47CE-406B-B8F5-9E604B0B0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ry of The Computer and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essie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icro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408924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d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tair 8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ed Micro Instrumentation and Telemetry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 old Microsoft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968640" y="1600200"/>
            <a:ext cx="4292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nar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se-2 numbe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ed numeric values using the symbols 0 and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ed internally by ALL modern compu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01011101001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705200" y="187308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kipedi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ctually I didn’t realize but almost all of the stuff I got was from wiki :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First 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5733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omputer was made in 1939 by John V. Atanasoff and Clifford Be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anasoff-Berry Computer (AB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030560" y="2033640"/>
            <a:ext cx="49482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419112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miral Grace Hopp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as working on a Mark II Computer at Harvard University, her associates discovered a moth stuck in a re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moved it and called it “Debugging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648320" y="2038320"/>
            <a:ext cx="403848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351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1957 Soviet Union Launched Sputnik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1958 Concerns of the people in the military Created The Defense Advanced Research Projects Agency Net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(DARPANE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363920" y="2343240"/>
            <a:ext cx="4322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nalytical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40006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mportant step in the history of compu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by an English Mathematician named Charles Babb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ecause the complexity, lack of project management science, expenses, and difficulty of accessing its value it was never bui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427640" y="1892160"/>
            <a:ext cx="42591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erman Hollerith’s Tabulating Mach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d to rapidly tabulate statistics from millions of pieces of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508120" y="2927520"/>
            <a:ext cx="4000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363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Built to calculate artillery firing tables for the United States Army's Ballistic Research Laboratory, but its first use was in the hydrogen bomb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Built in secret in the University of Pennsylvania’s Moore School of Electrical Engineer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WAS HUG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27720" y="1417680"/>
            <a:ext cx="313668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324320" y="4273560"/>
            <a:ext cx="3340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mputer program is a sequence of instructions written to perform a specified task for a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a Software Program or just a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ansistors &gt; Vacuum T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acuum Tubes were used to amplify music and vo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Long-distance calling practic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power, Created heat and burned out rapid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quired high mainte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ransistors did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772240" y="1239840"/>
            <a:ext cx="2044440" cy="24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372280" y="3894120"/>
            <a:ext cx="24444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15:37Z</dcterms:created>
  <dc:creator>HJ</dc:creator>
  <dc:description/>
  <dc:language>en-US</dc:language>
  <cp:lastModifiedBy>HJ</cp:lastModifiedBy>
  <dcterms:modified xsi:type="dcterms:W3CDTF">2010-09-02T17:18:41Z</dcterms:modified>
  <cp:revision>3</cp:revision>
  <dc:subject/>
  <dc:title>History of The Computer and The Internet</dc:title>
</cp:coreProperties>
</file>