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63F-259F-4D67-9352-B3504680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6C6-A5BC-42A8-B96D-C14DCA3F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2F1-9159-4D54-99B5-691C4FDD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612-FDA2-40CC-AE49-6C1F8F16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3CE-9C2A-46BC-B489-62C9FB51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91D-ED9B-4FC6-B999-54A2CAB2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535-21FB-4008-98EB-3C3D94A0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84C-38A8-471C-9153-EFCF60A6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A46-B034-446B-AFB4-690883C7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4A7-0D61-4685-9E97-AC7F6880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89F-9A85-47A4-B552-C8777F22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E82-B1F6-406F-B55B-03143083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ABE04-9FAF-4672-9B35-B8AC4B3ADF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6B6F2-3F09-475B-ADBB-DD95F7D7F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ry of The Computer and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essie :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icro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408924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d Rob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tair 8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ed Micro Instrumentation and Telemetry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 old Microsoft :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968640" y="1600200"/>
            <a:ext cx="42926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nary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ase-2 numbe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ed numeric values using the symbols 0 and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ed internally by ALL modern compu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01011101001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705200" y="187308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kipedi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 actually I didn’t realize but almost all of the stuff I got was from wiki :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First 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5733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computer was made in 1939 by John V. Atanasoff and Clifford Be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anasoff-Berry Computer (AB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030560" y="2033640"/>
            <a:ext cx="49482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b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419112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miral Grace Hopp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as working on a Mark II Computer at Harvard University, her associates discovered a moth stuck in a rel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moved it and called it “Debugging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648320" y="2038320"/>
            <a:ext cx="403848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351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1957 Soviet Union Launched Sputnik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1958 Concerns of the people in the military Created The Defense Advanced Research Projects Agency Net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(DARPANE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363920" y="2343240"/>
            <a:ext cx="4322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nalytical 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40006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mportant step in the history of compu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de by an English Mathematician named Charles Babb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ecause the complexity, lack of project management science, expenses, and difficulty of accessing its value it was never bui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427640" y="1892160"/>
            <a:ext cx="42591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erman Hollerith’s Tabulating Mach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d to rapidly tabulate statistics from millions of pieces of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508120" y="2927520"/>
            <a:ext cx="4000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I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00200"/>
            <a:ext cx="363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Built to calculate artillery firing tables for the United States Army's Ballistic Research Laboratory, but its first use was in the hydrogen bomb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Built in secret in the University of Pennsylvania’s Moore School of Electrical Engineer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WAS HUG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27720" y="1417680"/>
            <a:ext cx="313668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324320" y="4273560"/>
            <a:ext cx="3340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mputer program is a sequence of instructions written to perform a specified task for a compu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a Software Program or just a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ansistors &gt; Vacuum T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acuum Tubes were used to amplify music and vo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de Long-distance calling practic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power, Created heat and burned out rapid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quired high mainte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ransistors did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772240" y="1239840"/>
            <a:ext cx="2044440" cy="24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372280" y="3894120"/>
            <a:ext cx="24444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15:37Z</dcterms:created>
  <dc:creator>HJ</dc:creator>
  <dc:description/>
  <dc:language>en-US</dc:language>
  <cp:lastModifiedBy>HJ</cp:lastModifiedBy>
  <dcterms:modified xsi:type="dcterms:W3CDTF">2010-09-02T17:18:41Z</dcterms:modified>
  <cp:revision>3</cp:revision>
  <dc:subject/>
  <dc:title>History of The Computer and The Internet</dc:title>
</cp:coreProperties>
</file>