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389-075A-4818-8AD1-81517C0C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666-A76B-4F88-A04B-E1E9995C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091-BD41-41BA-ACBA-7928823F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5D7-DAE2-4EF9-A2B8-1453837D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ED3-B098-46D8-82D0-978B585A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BAC-8AD8-4111-9B2F-3CC27702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3E0-D28D-441F-9BD1-2FD23751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397-7A71-48C2-9784-1BFCA5BB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A7A-139D-48FC-9502-B38442A4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9F7-F8C8-4444-85AF-F4D4E065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53F-7388-4B5E-900C-79BEE04F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61B-D109-4F6B-B68A-FFD662CD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E3BF3-8C36-47D0-A617-F30E287761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D4EA5-F2B2-454E-8DDE-4D0C347D3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story of The Computer and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essie :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icrocompu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408924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9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d Rob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tair 8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ed Micro Instrumentation and Telemetry Syst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 old Microsoft :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968640" y="1600200"/>
            <a:ext cx="42926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nary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369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ase-2 number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resented numeric values using the symbols 0 and 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ed internally by ALL modern compu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001011101001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705200" y="187308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kipedi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ll actually I didn’t realize but almost all of the stuff I got was from wiki :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First Compu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57336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computer was made in 1939 by John V. Atanasoff and Clifford Be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anasoff-Berry Computer (AB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4030560" y="2033640"/>
            <a:ext cx="494820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b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419112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dmiral Grace Hopp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as working on a Mark II Computer at Harvard University, her associates discovered a moth stuck in a rel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moved it and called it “Debugging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648320" y="2038320"/>
            <a:ext cx="403848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351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1957 Soviet Union Launched Sputnik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1958 Concerns of the people in the military Created The Defense Advanced Research Projects Agency Net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(DARPANE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363920" y="2343240"/>
            <a:ext cx="43228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Analytical Eng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40006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mportant step in the history of compu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de by an English Mathematician named Charles Babb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ecause the complexity, lack of project management science, expenses, and difficulty of accessing its value it was never bui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427640" y="1892160"/>
            <a:ext cx="42591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erman Hollerith’s Tabulating Mach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d to rapidly tabulate statistics from millions of pieces of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508120" y="2927520"/>
            <a:ext cx="4000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I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600200"/>
            <a:ext cx="363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Built to calculate artillery firing tables for the United States Army's Ballistic Research Laboratory, but its first use was in the hydrogen bomb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Built in secret in the University of Pennsylvania’s Moore School of Electrical Engineer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WAS HUGE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527720" y="1417680"/>
            <a:ext cx="3136680" cy="2590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324320" y="4273560"/>
            <a:ext cx="3340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mputer program is a sequence of instructions written to perform a specified task for a compu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called a Software Program or just a Progr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ansistors &gt; Vacuum T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408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Vacuum Tubes were used to amplify music and voi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de Long-distance calling practic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sumed power, Created heat and burned out rapid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quired high mainte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ransistors did n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772240" y="1239840"/>
            <a:ext cx="2044440" cy="2422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372280" y="3894120"/>
            <a:ext cx="24444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7:15:37Z</dcterms:created>
  <dc:creator>HJ</dc:creator>
  <dc:description/>
  <dc:language>en-US</dc:language>
  <cp:lastModifiedBy>HJ</cp:lastModifiedBy>
  <dcterms:modified xsi:type="dcterms:W3CDTF">2010-09-02T17:18:41Z</dcterms:modified>
  <cp:revision>3</cp:revision>
  <dc:subject/>
  <dc:title>History of The Computer and The Internet</dc:title>
</cp:coreProperties>
</file>